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E03-345D-42D1-A98E-D9FCE82A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8CD-3511-473F-867B-3729407F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819-14D9-4ABE-9269-0D760B3B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1B6-9A7C-423A-981F-A26BE060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F3B-56F9-4C3D-B649-B96371B7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061-4711-4E8A-AD98-D1CAB38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CB59-A28E-42CC-AE8E-160D07C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BA40-A442-47A8-8CA4-FA5C5689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82E8-3164-41B7-AA35-54C0ED4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8309-282A-4DCE-A17E-4B8564D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406F-DB6C-4575-B975-A7A4C85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AD9-0ACC-4FA7-BBD2-6999EEDA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243A-50D7-4AE9-98AE-3746530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2D5D-00CC-4DE9-A27E-02702018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0A9-4A3D-45B2-82E2-DB1F32E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58A-1FCE-4E62-BB6E-394F5482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041-0948-4FE0-AEE1-A1FC8FCB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2B465-3B81-44A6-89C9-24C8307D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D4190-A364-4C93-95AB-1AAEF70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3A64D-F15A-42C4-9635-1948216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B4DF3-F578-4B36-AD6C-7B771B6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4D456-7670-4D1E-846E-801CE57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A03-875E-4EB3-8C08-8006C5B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8B4CF-8875-4E40-B35F-110EA4B5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DD578-E14D-408B-8826-7DE2901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DDBFA-3D84-4E4A-AC0A-A2C8E7BC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F5311-4BCC-47A3-8EA3-F7C90D9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5B232-0325-4BE2-A030-0F0CB3A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B20AC-3572-4A33-A781-F9ABD44E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D0E15-1DEF-45FD-80D3-50FBB70A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5286-13E9-4E69-A905-90B89385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17EF-197C-4B4E-B220-A67B28DB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E404-A41C-4C1E-AFEE-4B88575C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F49-7E4F-47AB-8A8C-F47108C0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5AEF-7880-44B3-9B69-FAD8B63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3EE5-17C3-49A1-8C35-8FBFEA6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178F-3D5D-464A-90A4-C87D7AC9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EE9E-8D94-4F89-8BCB-66E0043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FA2B-F4C1-4501-97D2-E95647C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2204-1736-48C4-9270-B5B9C79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CBFA-C8BA-4237-8932-FF5EF7BD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274E-3A5F-42A7-934B-F84604A1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F4C4-D5D2-43AA-B1E5-0E1DF0F1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E0594-DE18-419C-9042-C7E18293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2CF-26C5-46DD-A67B-A00E10D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5D30B-663C-4442-806F-0470C8E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85214-556C-4CB2-94E5-BBF0B8B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69AFB-7625-4557-AA28-E8A8793D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77774-35BF-48BD-A81E-EF286EE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544A9-72C3-4D6F-B298-B066594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B4D20-37A4-4D6E-ACB4-DEDC24D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A2A04-45E8-4014-9696-18CC030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A5175-D720-481E-9535-1149EA7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80D1E-28C0-47BE-8A6E-2394A47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4B16C-EEE2-425A-81AC-5E373A90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078-D528-41E4-85D9-6C69B24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283B4-4033-4FF7-95F4-9408E49E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1BC22-8BDA-4F78-8309-3550A253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60E06-D9E6-41DB-940D-FC3C0EC5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2CBCF-F9D0-4DFA-A83C-261604B4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5E767-7F4C-4C99-81F5-1AD01B7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1551D-B300-49F4-A883-EAD140E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49E57-03E0-49BF-9E81-CE1E74D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2CE18-1DF1-4A1A-A7BA-F62F099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D39BE-9DB6-4312-BD06-78FA926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8E467-A732-4FCC-9C5A-0D0F375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BF3-2882-4610-AF68-9EFF80C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DA982-8FFC-45D2-AAA3-EC389B45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3DDBF-A865-4701-8A81-B06BBF83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13E1C-7C99-4FDF-A7D9-4DA4A9A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E95F5-B458-418E-A870-068DAED0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DEE83-0743-4B3C-83E3-88BBC6B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7B700-8296-4E26-BF93-EEEECF06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203AF-1A76-4566-98C4-D87D648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DB87E-94C3-40F3-844D-B1CD1A6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A3539-EAE2-40CC-A211-04367B5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F69D6-5062-4707-92F8-75A1071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A97-F0AD-49A2-9E0E-0CCF2A2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F8102-E0DB-489B-95D6-CDCFC18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02464-63E1-4773-BA02-6F2AB1B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3A2B1-4AB2-4691-9D18-F8FA52F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40D47-36DE-42B6-89D0-06BF13E9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0F219-2C0D-42BF-8E63-4CD23BAF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B2D-CA83-4048-B657-8A14D08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F24-57C7-4561-A195-C382E27D890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CCA-6CEA-44A9-AC7D-C2B4C7F5697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D7E-12AE-4F2A-A157-2320FBAA461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5DC-2C90-45EC-8502-EF2FFA2CD4D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C877-E3E2-49BE-9F78-45B3803A501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E9C-51AF-4355-8BEC-EC977D1D04C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326-141B-44C9-9190-B14E8E53073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AAAANNNGGG.jpg"/>
          <p:cNvPicPr/>
          <p:nvPr/>
        </p:nvPicPr>
        <p:blipFill>
          <a:blip r:embed="rId1"/>
          <a:stretch/>
        </p:blipFill>
        <p:spPr>
          <a:xfrm>
            <a:off x="142920" y="357120"/>
            <a:ext cx="8466120" cy="6215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 Black"/>
              </a:rPr>
              <a:t>ESCOLA</a:t>
            </a:r>
            <a:br>
              <a:rPr sz="3000"/>
            </a:br>
            <a:r>
              <a:rPr b="1" lang="pt-BR" sz="3000" spc="-1" strike="noStrike">
                <a:solidFill>
                  <a:srgbClr val="575f6d"/>
                </a:solidFill>
                <a:latin typeface="Arial Black"/>
              </a:rPr>
              <a:t> ESTADUAL ANGELINA JAIME TEB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285880" y="5357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entury Schoolbook"/>
              </a:rPr>
              <a:t>O compromisso é a educaçã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S TECNOLOGIAS DISPONÍVEIS NA SUA ESCOL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85840" y="928800"/>
          <a:ext cx="7929360" cy="5994360"/>
        </p:xfrm>
        <a:graphic>
          <a:graphicData uri="http://schemas.openxmlformats.org/drawingml/2006/table">
            <a:tbl>
              <a:tblPr/>
              <a:tblGrid>
                <a:gridCol w="571320"/>
                <a:gridCol w="1071720"/>
                <a:gridCol w="6286320"/>
              </a:tblGrid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ant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o de Tecn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a Ut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me The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de sonorização. E utilizado para distribuição do som, com maior qualidade, na da sala de tecnolog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âme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al para registrar eventos ou projetos que são desenvolvidos na es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a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que projeta  imagens.  Aparelho muito utilizado, pois projeta  imagens do computador em um painel ou parede, sem a necessidade de outro aparelh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m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para a produção de vídeos. Utilizada em atividades de entrevistas, reportagens e Festival de Curta Metr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zado para a reprodução de musicas, como o Hino nacional , e outras atividades da es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ro Proje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smo principio de funcionamento de um data show que este projeta imagens através de uma transpar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a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utilizado para digitalizar imag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ídeo Cass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e aparelho, exerce a mesma função de uma aparelho de DVD só que é muito pouco uti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42920" y="227160"/>
          <a:ext cx="7929360" cy="6649920"/>
        </p:xfrm>
        <a:graphic>
          <a:graphicData uri="http://schemas.openxmlformats.org/drawingml/2006/table">
            <a:tbl>
              <a:tblPr/>
              <a:tblGrid>
                <a:gridCol w="570960"/>
                <a:gridCol w="1571040"/>
                <a:gridCol w="5640120"/>
                <a:gridCol w="147600"/>
              </a:tblGrid>
              <a:tr h="6318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scóp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quirido pela professor Adriana da sala de Tecnologia por meio de proj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de DV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utilizado para reprodução de ví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ess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 imprimir os trabalhos realizados na STE ou até mesmo para a confecção de carta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áudio visual. Associados ao aparelho de dvd, são utilizados para reproduzir filmes (ou trechos destes), documentários, entrevist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ef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rincipal atividade do telefone seria a comunicação, soque também utilizamos sua linha para se conectar com o mundo digital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rramentas que facilitam e organizam alguns trabalhos e estudos, podemos utilize-los em aulas inter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gridSpan="4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A DE RECURSOS D.A E D.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ess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a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V de 3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400" y="0"/>
            <a:ext cx="8396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 uso das Tecnologias veio para beneficiar todos os alunos inclusive a Primeira Fase A – 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F:\DCIM\104CASIO\CIMG0851.JPG"/>
          <p:cNvPicPr/>
          <p:nvPr/>
        </p:nvPicPr>
        <p:blipFill>
          <a:blip r:embed="rId1"/>
          <a:stretch/>
        </p:blipFill>
        <p:spPr>
          <a:xfrm>
            <a:off x="1285920" y="100008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3:22:57Z</dcterms:created>
  <dc:creator>Moises</dc:creator>
  <dc:description/>
  <dc:language>en-US</dc:language>
  <cp:lastModifiedBy>Moises</cp:lastModifiedBy>
  <dcterms:modified xsi:type="dcterms:W3CDTF">2010-05-12T04:02:02Z</dcterms:modified>
  <cp:revision>6</cp:revision>
  <dc:subject/>
  <dc:title>Escola  estadual angelina jaime tebet</dc:title>
</cp:coreProperties>
</file>